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1785-8D60-4193-AA11-764BB2D08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0810-B79E-48C7-9E47-52320FAE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7337-DE33-4007-B184-3EF6631A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57ED-43C2-49D3-8F6D-5946D44BE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D885-E8FE-48F3-892A-9CBE469F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0627-A42D-4280-97B4-08FF206D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257B-E0A6-4A77-A093-F93B90F3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DD42-32C4-4BCF-91F4-ECC34FCA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2DC4-6822-4695-A5F0-C46DB2D7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6149-A8F2-4C05-A8C2-C7765E01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74B1-DA4A-40F9-ABC1-4462F75F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53A8-CC09-4F85-8A7B-7CAE1CFE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EB59-457F-4C1E-9D65-E09EDC189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16280" y="1290600"/>
            <a:ext cx="5157720" cy="1058760"/>
          </a:xfrm>
          <a:custGeom>
            <a:avLst/>
            <a:gdLst/>
            <a:ahLst/>
            <a:rect l="l" t="t" r="r" b="b"/>
            <a:pathLst>
              <a:path w="3249" h="667">
                <a:moveTo>
                  <a:pt x="0" y="439"/>
                </a:moveTo>
                <a:cubicBezTo>
                  <a:pt x="64" y="415"/>
                  <a:pt x="17" y="374"/>
                  <a:pt x="45" y="329"/>
                </a:cubicBezTo>
                <a:cubicBezTo>
                  <a:pt x="59" y="307"/>
                  <a:pt x="88" y="301"/>
                  <a:pt x="109" y="292"/>
                </a:cubicBezTo>
                <a:cubicBezTo>
                  <a:pt x="142" y="260"/>
                  <a:pt x="153" y="227"/>
                  <a:pt x="164" y="183"/>
                </a:cubicBezTo>
                <a:cubicBezTo>
                  <a:pt x="184" y="99"/>
                  <a:pt x="158" y="117"/>
                  <a:pt x="210" y="100"/>
                </a:cubicBezTo>
                <a:cubicBezTo>
                  <a:pt x="238" y="72"/>
                  <a:pt x="286" y="46"/>
                  <a:pt x="329" y="45"/>
                </a:cubicBezTo>
                <a:cubicBezTo>
                  <a:pt x="557" y="39"/>
                  <a:pt x="786" y="39"/>
                  <a:pt x="1014" y="36"/>
                </a:cubicBezTo>
                <a:cubicBezTo>
                  <a:pt x="1063" y="20"/>
                  <a:pt x="1112" y="16"/>
                  <a:pt x="1161" y="0"/>
                </a:cubicBezTo>
                <a:cubicBezTo>
                  <a:pt x="1301" y="3"/>
                  <a:pt x="1441" y="1"/>
                  <a:pt x="1581" y="9"/>
                </a:cubicBezTo>
                <a:cubicBezTo>
                  <a:pt x="1651" y="13"/>
                  <a:pt x="1706" y="80"/>
                  <a:pt x="1764" y="109"/>
                </a:cubicBezTo>
                <a:cubicBezTo>
                  <a:pt x="1794" y="140"/>
                  <a:pt x="1810" y="185"/>
                  <a:pt x="1846" y="210"/>
                </a:cubicBezTo>
                <a:cubicBezTo>
                  <a:pt x="1951" y="284"/>
                  <a:pt x="2079" y="285"/>
                  <a:pt x="2203" y="292"/>
                </a:cubicBezTo>
                <a:cubicBezTo>
                  <a:pt x="2217" y="306"/>
                  <a:pt x="2226" y="324"/>
                  <a:pt x="2240" y="338"/>
                </a:cubicBezTo>
                <a:cubicBezTo>
                  <a:pt x="2268" y="366"/>
                  <a:pt x="2321" y="390"/>
                  <a:pt x="2358" y="402"/>
                </a:cubicBezTo>
                <a:cubicBezTo>
                  <a:pt x="2385" y="427"/>
                  <a:pt x="2400" y="438"/>
                  <a:pt x="2432" y="457"/>
                </a:cubicBezTo>
                <a:cubicBezTo>
                  <a:pt x="2451" y="468"/>
                  <a:pt x="2486" y="493"/>
                  <a:pt x="2486" y="493"/>
                </a:cubicBezTo>
                <a:cubicBezTo>
                  <a:pt x="2514" y="534"/>
                  <a:pt x="2540" y="580"/>
                  <a:pt x="2587" y="603"/>
                </a:cubicBezTo>
                <a:cubicBezTo>
                  <a:pt x="2604" y="611"/>
                  <a:pt x="2642" y="621"/>
                  <a:pt x="2642" y="621"/>
                </a:cubicBezTo>
                <a:cubicBezTo>
                  <a:pt x="2675" y="644"/>
                  <a:pt x="2664" y="641"/>
                  <a:pt x="2706" y="649"/>
                </a:cubicBezTo>
                <a:cubicBezTo>
                  <a:pt x="2743" y="656"/>
                  <a:pt x="2816" y="667"/>
                  <a:pt x="2816" y="667"/>
                </a:cubicBezTo>
                <a:cubicBezTo>
                  <a:pt x="2852" y="664"/>
                  <a:pt x="2889" y="663"/>
                  <a:pt x="2925" y="658"/>
                </a:cubicBezTo>
                <a:cubicBezTo>
                  <a:pt x="2935" y="657"/>
                  <a:pt x="2947" y="657"/>
                  <a:pt x="2953" y="649"/>
                </a:cubicBezTo>
                <a:cubicBezTo>
                  <a:pt x="2959" y="641"/>
                  <a:pt x="2974" y="569"/>
                  <a:pt x="2989" y="557"/>
                </a:cubicBezTo>
                <a:cubicBezTo>
                  <a:pt x="3053" y="506"/>
                  <a:pt x="3143" y="502"/>
                  <a:pt x="3218" y="484"/>
                </a:cubicBezTo>
                <a:cubicBezTo>
                  <a:pt x="3249" y="392"/>
                  <a:pt x="3236" y="349"/>
                  <a:pt x="3236" y="228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95640" y="4365720"/>
            <a:ext cx="576360" cy="1368360"/>
          </a:xfrm>
          <a:custGeom>
            <a:avLst/>
            <a:gdLst/>
            <a:ahLst/>
            <a:rect l="l" t="t" r="r" b="b"/>
            <a:pathLst>
              <a:path w="363" h="862">
                <a:moveTo>
                  <a:pt x="318" y="816"/>
                </a:moveTo>
                <a:lnTo>
                  <a:pt x="363" y="635"/>
                </a:lnTo>
                <a:lnTo>
                  <a:pt x="363" y="408"/>
                </a:lnTo>
                <a:lnTo>
                  <a:pt x="363" y="181"/>
                </a:lnTo>
                <a:lnTo>
                  <a:pt x="272" y="45"/>
                </a:lnTo>
                <a:lnTo>
                  <a:pt x="182" y="0"/>
                </a:lnTo>
                <a:lnTo>
                  <a:pt x="136" y="90"/>
                </a:lnTo>
                <a:lnTo>
                  <a:pt x="45" y="181"/>
                </a:lnTo>
                <a:lnTo>
                  <a:pt x="0" y="317"/>
                </a:lnTo>
                <a:lnTo>
                  <a:pt x="0" y="408"/>
                </a:lnTo>
                <a:lnTo>
                  <a:pt x="0" y="499"/>
                </a:lnTo>
                <a:lnTo>
                  <a:pt x="0" y="589"/>
                </a:lnTo>
                <a:lnTo>
                  <a:pt x="45" y="680"/>
                </a:lnTo>
                <a:lnTo>
                  <a:pt x="91" y="725"/>
                </a:lnTo>
                <a:lnTo>
                  <a:pt x="136" y="816"/>
                </a:lnTo>
                <a:lnTo>
                  <a:pt x="227" y="816"/>
                </a:lnTo>
                <a:lnTo>
                  <a:pt x="272" y="862"/>
                </a:lnTo>
                <a:lnTo>
                  <a:pt x="318" y="816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43280" y="4437000"/>
            <a:ext cx="505080" cy="1440000"/>
          </a:xfrm>
          <a:custGeom>
            <a:avLst/>
            <a:gdLst/>
            <a:ahLst/>
            <a:rect l="l" t="t" r="r" b="b"/>
            <a:pathLst>
              <a:path w="318" h="862">
                <a:moveTo>
                  <a:pt x="46" y="91"/>
                </a:moveTo>
                <a:lnTo>
                  <a:pt x="0" y="363"/>
                </a:lnTo>
                <a:lnTo>
                  <a:pt x="0" y="499"/>
                </a:lnTo>
                <a:lnTo>
                  <a:pt x="0" y="680"/>
                </a:lnTo>
                <a:lnTo>
                  <a:pt x="91" y="817"/>
                </a:lnTo>
                <a:lnTo>
                  <a:pt x="273" y="862"/>
                </a:lnTo>
                <a:lnTo>
                  <a:pt x="318" y="544"/>
                </a:lnTo>
                <a:lnTo>
                  <a:pt x="318" y="318"/>
                </a:lnTo>
                <a:lnTo>
                  <a:pt x="273" y="45"/>
                </a:lnTo>
                <a:lnTo>
                  <a:pt x="227" y="0"/>
                </a:lnTo>
                <a:lnTo>
                  <a:pt x="91" y="45"/>
                </a:lnTo>
                <a:lnTo>
                  <a:pt x="46" y="91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29160" y="4630680"/>
            <a:ext cx="203040" cy="15840"/>
          </a:xfrm>
          <a:custGeom>
            <a:avLst/>
            <a:gdLst/>
            <a:ahLst/>
            <a:rect l="l" t="t" r="r" b="b"/>
            <a:pathLst>
              <a:path w="128" h="10">
                <a:moveTo>
                  <a:pt x="0" y="0"/>
                </a:moveTo>
                <a:cubicBezTo>
                  <a:pt x="109" y="10"/>
                  <a:pt x="67" y="9"/>
                  <a:pt x="128" y="9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84720" y="3429000"/>
            <a:ext cx="574560" cy="71280"/>
          </a:xfrm>
          <a:custGeom>
            <a:avLst/>
            <a:gdLst/>
            <a:ahLst/>
            <a:rect l="l" t="t" r="r" b="b"/>
            <a:pathLst>
              <a:path w="1088" h="46">
                <a:moveTo>
                  <a:pt x="0" y="28"/>
                </a:moveTo>
                <a:cubicBezTo>
                  <a:pt x="136" y="3"/>
                  <a:pt x="136" y="7"/>
                  <a:pt x="338" y="0"/>
                </a:cubicBezTo>
                <a:cubicBezTo>
                  <a:pt x="548" y="3"/>
                  <a:pt x="759" y="4"/>
                  <a:pt x="969" y="9"/>
                </a:cubicBezTo>
                <a:cubicBezTo>
                  <a:pt x="1012" y="10"/>
                  <a:pt x="1058" y="16"/>
                  <a:pt x="1088" y="4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06880" y="5805360"/>
            <a:ext cx="900360" cy="947880"/>
          </a:xfrm>
          <a:custGeom>
            <a:avLst/>
            <a:gdLst/>
            <a:ahLst/>
            <a:rect l="l" t="t" r="r" b="b"/>
            <a:pathLst>
              <a:path w="567" h="597">
                <a:moveTo>
                  <a:pt x="0" y="21"/>
                </a:moveTo>
                <a:cubicBezTo>
                  <a:pt x="24" y="27"/>
                  <a:pt x="49" y="33"/>
                  <a:pt x="73" y="39"/>
                </a:cubicBezTo>
                <a:cubicBezTo>
                  <a:pt x="85" y="42"/>
                  <a:pt x="110" y="48"/>
                  <a:pt x="110" y="48"/>
                </a:cubicBezTo>
                <a:cubicBezTo>
                  <a:pt x="189" y="132"/>
                  <a:pt x="58" y="0"/>
                  <a:pt x="156" y="76"/>
                </a:cubicBezTo>
                <a:cubicBezTo>
                  <a:pt x="165" y="83"/>
                  <a:pt x="167" y="95"/>
                  <a:pt x="174" y="103"/>
                </a:cubicBezTo>
                <a:cubicBezTo>
                  <a:pt x="188" y="119"/>
                  <a:pt x="202" y="137"/>
                  <a:pt x="220" y="149"/>
                </a:cubicBezTo>
                <a:cubicBezTo>
                  <a:pt x="229" y="155"/>
                  <a:pt x="239" y="159"/>
                  <a:pt x="247" y="167"/>
                </a:cubicBezTo>
                <a:cubicBezTo>
                  <a:pt x="258" y="178"/>
                  <a:pt x="262" y="195"/>
                  <a:pt x="275" y="204"/>
                </a:cubicBezTo>
                <a:cubicBezTo>
                  <a:pt x="285" y="211"/>
                  <a:pt x="299" y="210"/>
                  <a:pt x="311" y="213"/>
                </a:cubicBezTo>
                <a:cubicBezTo>
                  <a:pt x="337" y="230"/>
                  <a:pt x="367" y="242"/>
                  <a:pt x="393" y="259"/>
                </a:cubicBezTo>
                <a:cubicBezTo>
                  <a:pt x="428" y="283"/>
                  <a:pt x="458" y="317"/>
                  <a:pt x="494" y="341"/>
                </a:cubicBezTo>
                <a:cubicBezTo>
                  <a:pt x="511" y="375"/>
                  <a:pt x="521" y="405"/>
                  <a:pt x="531" y="441"/>
                </a:cubicBezTo>
                <a:cubicBezTo>
                  <a:pt x="537" y="518"/>
                  <a:pt x="520" y="550"/>
                  <a:pt x="567" y="5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84720" y="1628640"/>
            <a:ext cx="647640" cy="2880000"/>
          </a:xfrm>
          <a:custGeom>
            <a:avLst/>
            <a:gdLst/>
            <a:ahLst/>
            <a:rect l="l" t="t" r="r" b="b"/>
            <a:pathLst>
              <a:path w="549" h="1380">
                <a:moveTo>
                  <a:pt x="0" y="0"/>
                </a:moveTo>
                <a:cubicBezTo>
                  <a:pt x="149" y="3"/>
                  <a:pt x="299" y="0"/>
                  <a:pt x="448" y="9"/>
                </a:cubicBezTo>
                <a:cubicBezTo>
                  <a:pt x="478" y="11"/>
                  <a:pt x="529" y="133"/>
                  <a:pt x="540" y="164"/>
                </a:cubicBezTo>
                <a:cubicBezTo>
                  <a:pt x="543" y="173"/>
                  <a:pt x="549" y="192"/>
                  <a:pt x="549" y="192"/>
                </a:cubicBezTo>
                <a:cubicBezTo>
                  <a:pt x="546" y="271"/>
                  <a:pt x="545" y="350"/>
                  <a:pt x="540" y="429"/>
                </a:cubicBezTo>
                <a:cubicBezTo>
                  <a:pt x="537" y="468"/>
                  <a:pt x="506" y="503"/>
                  <a:pt x="494" y="539"/>
                </a:cubicBezTo>
                <a:cubicBezTo>
                  <a:pt x="497" y="688"/>
                  <a:pt x="498" y="838"/>
                  <a:pt x="503" y="987"/>
                </a:cubicBezTo>
                <a:cubicBezTo>
                  <a:pt x="503" y="997"/>
                  <a:pt x="517" y="1056"/>
                  <a:pt x="521" y="1069"/>
                </a:cubicBezTo>
                <a:cubicBezTo>
                  <a:pt x="530" y="1097"/>
                  <a:pt x="549" y="1152"/>
                  <a:pt x="549" y="1152"/>
                </a:cubicBezTo>
                <a:cubicBezTo>
                  <a:pt x="546" y="1201"/>
                  <a:pt x="547" y="1250"/>
                  <a:pt x="540" y="1298"/>
                </a:cubicBezTo>
                <a:cubicBezTo>
                  <a:pt x="537" y="1317"/>
                  <a:pt x="527" y="1335"/>
                  <a:pt x="521" y="1353"/>
                </a:cubicBezTo>
                <a:cubicBezTo>
                  <a:pt x="517" y="1363"/>
                  <a:pt x="503" y="1380"/>
                  <a:pt x="503" y="13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78160" y="1628640"/>
            <a:ext cx="106560" cy="606600"/>
          </a:xfrm>
          <a:custGeom>
            <a:avLst/>
            <a:gdLst/>
            <a:ahLst/>
            <a:rect l="l" t="t" r="r" b="b"/>
            <a:pathLst>
              <a:path w="45" h="119">
                <a:moveTo>
                  <a:pt x="1" y="119"/>
                </a:moveTo>
                <a:cubicBezTo>
                  <a:pt x="4" y="98"/>
                  <a:pt x="0" y="74"/>
                  <a:pt x="10" y="55"/>
                </a:cubicBezTo>
                <a:cubicBezTo>
                  <a:pt x="14" y="46"/>
                  <a:pt x="34" y="55"/>
                  <a:pt x="38" y="46"/>
                </a:cubicBezTo>
                <a:cubicBezTo>
                  <a:pt x="45" y="32"/>
                  <a:pt x="38" y="15"/>
                  <a:pt x="3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2205000"/>
            <a:ext cx="73080" cy="2232000"/>
          </a:xfrm>
          <a:custGeom>
            <a:avLst/>
            <a:gdLst/>
            <a:ahLst/>
            <a:rect l="l" t="t" r="r" b="b"/>
            <a:pathLst>
              <a:path w="46" h="1406">
                <a:moveTo>
                  <a:pt x="0" y="0"/>
                </a:moveTo>
                <a:lnTo>
                  <a:pt x="46" y="136"/>
                </a:lnTo>
                <a:lnTo>
                  <a:pt x="46" y="272"/>
                </a:lnTo>
                <a:lnTo>
                  <a:pt x="0" y="499"/>
                </a:lnTo>
                <a:lnTo>
                  <a:pt x="0" y="590"/>
                </a:lnTo>
                <a:lnTo>
                  <a:pt x="0" y="726"/>
                </a:lnTo>
                <a:lnTo>
                  <a:pt x="0" y="907"/>
                </a:lnTo>
                <a:lnTo>
                  <a:pt x="46" y="1225"/>
                </a:lnTo>
                <a:lnTo>
                  <a:pt x="0" y="1406"/>
                </a:ln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6286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50800" y="231840"/>
            <a:ext cx="2279880" cy="6459480"/>
          </a:xfrm>
          <a:custGeom>
            <a:avLst/>
            <a:gdLst/>
            <a:ahLst/>
            <a:rect l="l" t="t" r="r" b="b"/>
            <a:pathLst>
              <a:path w="1436" h="4069">
                <a:moveTo>
                  <a:pt x="457" y="0"/>
                </a:moveTo>
                <a:cubicBezTo>
                  <a:pt x="490" y="46"/>
                  <a:pt x="527" y="97"/>
                  <a:pt x="567" y="137"/>
                </a:cubicBezTo>
                <a:cubicBezTo>
                  <a:pt x="593" y="163"/>
                  <a:pt x="633" y="174"/>
                  <a:pt x="659" y="201"/>
                </a:cubicBezTo>
                <a:cubicBezTo>
                  <a:pt x="687" y="231"/>
                  <a:pt x="670" y="215"/>
                  <a:pt x="713" y="247"/>
                </a:cubicBezTo>
                <a:cubicBezTo>
                  <a:pt x="744" y="334"/>
                  <a:pt x="857" y="415"/>
                  <a:pt x="933" y="467"/>
                </a:cubicBezTo>
                <a:cubicBezTo>
                  <a:pt x="1008" y="518"/>
                  <a:pt x="939" y="457"/>
                  <a:pt x="988" y="503"/>
                </a:cubicBezTo>
                <a:cubicBezTo>
                  <a:pt x="1008" y="544"/>
                  <a:pt x="1013" y="592"/>
                  <a:pt x="1033" y="631"/>
                </a:cubicBezTo>
                <a:cubicBezTo>
                  <a:pt x="1043" y="651"/>
                  <a:pt x="1057" y="668"/>
                  <a:pt x="1070" y="686"/>
                </a:cubicBezTo>
                <a:cubicBezTo>
                  <a:pt x="1079" y="699"/>
                  <a:pt x="1090" y="709"/>
                  <a:pt x="1097" y="723"/>
                </a:cubicBezTo>
                <a:cubicBezTo>
                  <a:pt x="1119" y="765"/>
                  <a:pt x="1132" y="816"/>
                  <a:pt x="1171" y="841"/>
                </a:cubicBezTo>
                <a:cubicBezTo>
                  <a:pt x="1203" y="907"/>
                  <a:pt x="1281" y="970"/>
                  <a:pt x="1353" y="988"/>
                </a:cubicBezTo>
                <a:cubicBezTo>
                  <a:pt x="1378" y="1079"/>
                  <a:pt x="1345" y="982"/>
                  <a:pt x="1381" y="1043"/>
                </a:cubicBezTo>
                <a:cubicBezTo>
                  <a:pt x="1386" y="1051"/>
                  <a:pt x="1384" y="1062"/>
                  <a:pt x="1390" y="1070"/>
                </a:cubicBezTo>
                <a:cubicBezTo>
                  <a:pt x="1403" y="1087"/>
                  <a:pt x="1436" y="1116"/>
                  <a:pt x="1436" y="1116"/>
                </a:cubicBezTo>
                <a:cubicBezTo>
                  <a:pt x="1433" y="1149"/>
                  <a:pt x="1432" y="1183"/>
                  <a:pt x="1427" y="1216"/>
                </a:cubicBezTo>
                <a:cubicBezTo>
                  <a:pt x="1421" y="1256"/>
                  <a:pt x="1387" y="1280"/>
                  <a:pt x="1363" y="1308"/>
                </a:cubicBezTo>
                <a:cubicBezTo>
                  <a:pt x="1327" y="1351"/>
                  <a:pt x="1307" y="1385"/>
                  <a:pt x="1253" y="1399"/>
                </a:cubicBezTo>
                <a:cubicBezTo>
                  <a:pt x="1222" y="1419"/>
                  <a:pt x="1192" y="1425"/>
                  <a:pt x="1161" y="1445"/>
                </a:cubicBezTo>
                <a:cubicBezTo>
                  <a:pt x="1150" y="1461"/>
                  <a:pt x="1134" y="1474"/>
                  <a:pt x="1125" y="1491"/>
                </a:cubicBezTo>
                <a:cubicBezTo>
                  <a:pt x="1120" y="1502"/>
                  <a:pt x="1122" y="1516"/>
                  <a:pt x="1116" y="1527"/>
                </a:cubicBezTo>
                <a:cubicBezTo>
                  <a:pt x="1103" y="1552"/>
                  <a:pt x="1030" y="1597"/>
                  <a:pt x="1006" y="1609"/>
                </a:cubicBezTo>
                <a:cubicBezTo>
                  <a:pt x="967" y="1650"/>
                  <a:pt x="937" y="1698"/>
                  <a:pt x="896" y="1737"/>
                </a:cubicBezTo>
                <a:cubicBezTo>
                  <a:pt x="885" y="1782"/>
                  <a:pt x="872" y="1823"/>
                  <a:pt x="851" y="1865"/>
                </a:cubicBezTo>
                <a:cubicBezTo>
                  <a:pt x="826" y="2001"/>
                  <a:pt x="803" y="2113"/>
                  <a:pt x="933" y="2176"/>
                </a:cubicBezTo>
                <a:cubicBezTo>
                  <a:pt x="939" y="2182"/>
                  <a:pt x="944" y="2190"/>
                  <a:pt x="951" y="2195"/>
                </a:cubicBezTo>
                <a:cubicBezTo>
                  <a:pt x="960" y="2202"/>
                  <a:pt x="971" y="2205"/>
                  <a:pt x="979" y="2213"/>
                </a:cubicBezTo>
                <a:cubicBezTo>
                  <a:pt x="1049" y="2281"/>
                  <a:pt x="942" y="2201"/>
                  <a:pt x="1024" y="2259"/>
                </a:cubicBezTo>
                <a:cubicBezTo>
                  <a:pt x="1035" y="2304"/>
                  <a:pt x="1060" y="2322"/>
                  <a:pt x="1088" y="2359"/>
                </a:cubicBezTo>
                <a:cubicBezTo>
                  <a:pt x="1110" y="2427"/>
                  <a:pt x="1088" y="2342"/>
                  <a:pt x="1088" y="2423"/>
                </a:cubicBezTo>
                <a:cubicBezTo>
                  <a:pt x="1088" y="2493"/>
                  <a:pt x="1089" y="2563"/>
                  <a:pt x="1097" y="2633"/>
                </a:cubicBezTo>
                <a:cubicBezTo>
                  <a:pt x="1101" y="2665"/>
                  <a:pt x="1171" y="2697"/>
                  <a:pt x="1171" y="2697"/>
                </a:cubicBezTo>
                <a:cubicBezTo>
                  <a:pt x="1181" y="2728"/>
                  <a:pt x="1194" y="2747"/>
                  <a:pt x="1216" y="2771"/>
                </a:cubicBezTo>
                <a:cubicBezTo>
                  <a:pt x="1213" y="2810"/>
                  <a:pt x="1215" y="2850"/>
                  <a:pt x="1207" y="2889"/>
                </a:cubicBezTo>
                <a:cubicBezTo>
                  <a:pt x="1202" y="2916"/>
                  <a:pt x="1136" y="2943"/>
                  <a:pt x="1107" y="2953"/>
                </a:cubicBezTo>
                <a:cubicBezTo>
                  <a:pt x="1017" y="3014"/>
                  <a:pt x="932" y="3035"/>
                  <a:pt x="823" y="3045"/>
                </a:cubicBezTo>
                <a:cubicBezTo>
                  <a:pt x="780" y="3059"/>
                  <a:pt x="753" y="3087"/>
                  <a:pt x="713" y="3100"/>
                </a:cubicBezTo>
                <a:cubicBezTo>
                  <a:pt x="702" y="3133"/>
                  <a:pt x="707" y="3135"/>
                  <a:pt x="668" y="3155"/>
                </a:cubicBezTo>
                <a:cubicBezTo>
                  <a:pt x="651" y="3164"/>
                  <a:pt x="613" y="3173"/>
                  <a:pt x="613" y="3173"/>
                </a:cubicBezTo>
                <a:cubicBezTo>
                  <a:pt x="577" y="3199"/>
                  <a:pt x="536" y="3232"/>
                  <a:pt x="494" y="3246"/>
                </a:cubicBezTo>
                <a:cubicBezTo>
                  <a:pt x="453" y="3302"/>
                  <a:pt x="452" y="3343"/>
                  <a:pt x="439" y="3411"/>
                </a:cubicBezTo>
                <a:cubicBezTo>
                  <a:pt x="434" y="3436"/>
                  <a:pt x="427" y="3460"/>
                  <a:pt x="421" y="3484"/>
                </a:cubicBezTo>
                <a:cubicBezTo>
                  <a:pt x="418" y="3496"/>
                  <a:pt x="412" y="3520"/>
                  <a:pt x="412" y="3520"/>
                </a:cubicBezTo>
                <a:cubicBezTo>
                  <a:pt x="409" y="3551"/>
                  <a:pt x="410" y="3582"/>
                  <a:pt x="403" y="3612"/>
                </a:cubicBezTo>
                <a:cubicBezTo>
                  <a:pt x="390" y="3667"/>
                  <a:pt x="310" y="3661"/>
                  <a:pt x="275" y="3694"/>
                </a:cubicBezTo>
                <a:cubicBezTo>
                  <a:pt x="238" y="3729"/>
                  <a:pt x="259" y="3711"/>
                  <a:pt x="192" y="3758"/>
                </a:cubicBezTo>
                <a:cubicBezTo>
                  <a:pt x="183" y="3764"/>
                  <a:pt x="165" y="3776"/>
                  <a:pt x="165" y="3776"/>
                </a:cubicBezTo>
                <a:cubicBezTo>
                  <a:pt x="119" y="3847"/>
                  <a:pt x="178" y="3764"/>
                  <a:pt x="119" y="3822"/>
                </a:cubicBezTo>
                <a:cubicBezTo>
                  <a:pt x="111" y="3830"/>
                  <a:pt x="108" y="3841"/>
                  <a:pt x="101" y="3849"/>
                </a:cubicBezTo>
                <a:cubicBezTo>
                  <a:pt x="39" y="3919"/>
                  <a:pt x="40" y="3898"/>
                  <a:pt x="9" y="3987"/>
                </a:cubicBezTo>
                <a:cubicBezTo>
                  <a:pt x="0" y="4013"/>
                  <a:pt x="9" y="4042"/>
                  <a:pt x="9" y="4069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3958560" y="249228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 ft/ 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51160" y="5689440"/>
            <a:ext cx="957240" cy="1089360"/>
          </a:xfrm>
          <a:custGeom>
            <a:avLst/>
            <a:gdLst/>
            <a:ahLst/>
            <a:rect l="l" t="t" r="r" b="b"/>
            <a:pathLst>
              <a:path w="603" h="686">
                <a:moveTo>
                  <a:pt x="603" y="0"/>
                </a:moveTo>
                <a:cubicBezTo>
                  <a:pt x="586" y="11"/>
                  <a:pt x="565" y="14"/>
                  <a:pt x="549" y="27"/>
                </a:cubicBezTo>
                <a:cubicBezTo>
                  <a:pt x="540" y="34"/>
                  <a:pt x="539" y="48"/>
                  <a:pt x="530" y="55"/>
                </a:cubicBezTo>
                <a:cubicBezTo>
                  <a:pt x="523" y="61"/>
                  <a:pt x="512" y="60"/>
                  <a:pt x="503" y="64"/>
                </a:cubicBezTo>
                <a:cubicBezTo>
                  <a:pt x="465" y="83"/>
                  <a:pt x="425" y="106"/>
                  <a:pt x="384" y="119"/>
                </a:cubicBezTo>
                <a:cubicBezTo>
                  <a:pt x="330" y="136"/>
                  <a:pt x="267" y="140"/>
                  <a:pt x="219" y="174"/>
                </a:cubicBezTo>
                <a:cubicBezTo>
                  <a:pt x="191" y="194"/>
                  <a:pt x="140" y="265"/>
                  <a:pt x="119" y="293"/>
                </a:cubicBezTo>
                <a:cubicBezTo>
                  <a:pt x="109" y="323"/>
                  <a:pt x="83" y="345"/>
                  <a:pt x="73" y="375"/>
                </a:cubicBezTo>
                <a:cubicBezTo>
                  <a:pt x="34" y="492"/>
                  <a:pt x="0" y="561"/>
                  <a:pt x="0" y="68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37120" y="2162160"/>
            <a:ext cx="266760" cy="2235240"/>
          </a:xfrm>
          <a:custGeom>
            <a:avLst/>
            <a:gdLst/>
            <a:ahLst/>
            <a:rect l="l" t="t" r="r" b="b"/>
            <a:pathLst>
              <a:path w="168" h="1408">
                <a:moveTo>
                  <a:pt x="91" y="1408"/>
                </a:moveTo>
                <a:cubicBezTo>
                  <a:pt x="81" y="1324"/>
                  <a:pt x="89" y="1252"/>
                  <a:pt x="109" y="1171"/>
                </a:cubicBezTo>
                <a:cubicBezTo>
                  <a:pt x="107" y="1101"/>
                  <a:pt x="168" y="898"/>
                  <a:pt x="55" y="860"/>
                </a:cubicBezTo>
                <a:cubicBezTo>
                  <a:pt x="52" y="851"/>
                  <a:pt x="51" y="840"/>
                  <a:pt x="45" y="832"/>
                </a:cubicBezTo>
                <a:cubicBezTo>
                  <a:pt x="38" y="821"/>
                  <a:pt x="21" y="817"/>
                  <a:pt x="18" y="805"/>
                </a:cubicBezTo>
                <a:cubicBezTo>
                  <a:pt x="14" y="790"/>
                  <a:pt x="25" y="774"/>
                  <a:pt x="27" y="759"/>
                </a:cubicBezTo>
                <a:cubicBezTo>
                  <a:pt x="40" y="673"/>
                  <a:pt x="11" y="692"/>
                  <a:pt x="73" y="677"/>
                </a:cubicBezTo>
                <a:cubicBezTo>
                  <a:pt x="70" y="616"/>
                  <a:pt x="72" y="554"/>
                  <a:pt x="64" y="494"/>
                </a:cubicBezTo>
                <a:cubicBezTo>
                  <a:pt x="62" y="477"/>
                  <a:pt x="38" y="471"/>
                  <a:pt x="27" y="457"/>
                </a:cubicBezTo>
                <a:cubicBezTo>
                  <a:pt x="7" y="431"/>
                  <a:pt x="10" y="432"/>
                  <a:pt x="0" y="403"/>
                </a:cubicBezTo>
                <a:cubicBezTo>
                  <a:pt x="3" y="378"/>
                  <a:pt x="0" y="352"/>
                  <a:pt x="9" y="329"/>
                </a:cubicBezTo>
                <a:cubicBezTo>
                  <a:pt x="19" y="304"/>
                  <a:pt x="91" y="297"/>
                  <a:pt x="109" y="293"/>
                </a:cubicBezTo>
                <a:cubicBezTo>
                  <a:pt x="139" y="210"/>
                  <a:pt x="36" y="96"/>
                  <a:pt x="3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1844640"/>
            <a:ext cx="287280" cy="2592360"/>
          </a:xfrm>
          <a:custGeom>
            <a:avLst/>
            <a:gdLst/>
            <a:ahLst/>
            <a:rect l="l" t="t" r="r" b="b"/>
            <a:pathLst>
              <a:path w="181" h="1633">
                <a:moveTo>
                  <a:pt x="91" y="0"/>
                </a:moveTo>
                <a:lnTo>
                  <a:pt x="45" y="45"/>
                </a:lnTo>
                <a:lnTo>
                  <a:pt x="45" y="136"/>
                </a:lnTo>
                <a:lnTo>
                  <a:pt x="45" y="272"/>
                </a:lnTo>
                <a:lnTo>
                  <a:pt x="91" y="454"/>
                </a:lnTo>
                <a:lnTo>
                  <a:pt x="45" y="499"/>
                </a:lnTo>
                <a:lnTo>
                  <a:pt x="0" y="590"/>
                </a:lnTo>
                <a:lnTo>
                  <a:pt x="45" y="726"/>
                </a:lnTo>
                <a:lnTo>
                  <a:pt x="91" y="862"/>
                </a:lnTo>
                <a:lnTo>
                  <a:pt x="45" y="907"/>
                </a:lnTo>
                <a:lnTo>
                  <a:pt x="45" y="998"/>
                </a:lnTo>
                <a:lnTo>
                  <a:pt x="91" y="1089"/>
                </a:lnTo>
                <a:lnTo>
                  <a:pt x="91" y="1179"/>
                </a:lnTo>
                <a:lnTo>
                  <a:pt x="91" y="1406"/>
                </a:lnTo>
                <a:lnTo>
                  <a:pt x="91" y="1542"/>
                </a:lnTo>
                <a:lnTo>
                  <a:pt x="181" y="1633"/>
                </a:ln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84720" y="3573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82840" y="3429000"/>
            <a:ext cx="92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 ft/ 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003640" y="2852640"/>
            <a:ext cx="936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8360" y="2637000"/>
            <a:ext cx="53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148000" y="4437000"/>
            <a:ext cx="936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79320" y="422100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c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716000" y="3645000"/>
            <a:ext cx="136836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2000" y="342900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y stone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4932000" y="3499920"/>
            <a:ext cx="107964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71640" y="198900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826560" y="4627440"/>
            <a:ext cx="1008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9640" y="4430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35280" y="549360"/>
            <a:ext cx="649080" cy="792000"/>
          </a:xfrm>
          <a:prstGeom prst="line">
            <a:avLst/>
          </a:prstGeom>
          <a:ln w="763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0840" y="189000"/>
            <a:ext cx="166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’s line of adv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94400" y="208080"/>
            <a:ext cx="2393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p for Hochebi H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659640" y="3500280"/>
            <a:ext cx="720720" cy="3097440"/>
          </a:xfrm>
          <a:custGeom>
            <a:avLst/>
            <a:gdLst/>
            <a:ahLst/>
            <a:rect l="l" t="t" r="r" b="b"/>
            <a:pathLst>
              <a:path w="454" h="1951">
                <a:moveTo>
                  <a:pt x="454" y="0"/>
                </a:moveTo>
                <a:lnTo>
                  <a:pt x="91" y="46"/>
                </a:lnTo>
                <a:lnTo>
                  <a:pt x="0" y="363"/>
                </a:lnTo>
                <a:lnTo>
                  <a:pt x="46" y="908"/>
                </a:lnTo>
                <a:lnTo>
                  <a:pt x="46" y="1270"/>
                </a:lnTo>
                <a:lnTo>
                  <a:pt x="46" y="1633"/>
                </a:lnTo>
                <a:lnTo>
                  <a:pt x="46" y="1860"/>
                </a:lnTo>
                <a:lnTo>
                  <a:pt x="137" y="1905"/>
                </a:lnTo>
                <a:lnTo>
                  <a:pt x="409" y="1951"/>
                </a:lnTo>
                <a:lnTo>
                  <a:pt x="363" y="1679"/>
                </a:lnTo>
                <a:lnTo>
                  <a:pt x="409" y="1044"/>
                </a:lnTo>
                <a:lnTo>
                  <a:pt x="454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03640" y="3068640"/>
            <a:ext cx="863640" cy="216000"/>
          </a:xfrm>
          <a:custGeom>
            <a:avLst/>
            <a:gdLst/>
            <a:ahLst/>
            <a:rect l="l" t="t" r="r" b="b"/>
            <a:pathLst>
              <a:path w="544" h="136">
                <a:moveTo>
                  <a:pt x="0" y="0"/>
                </a:moveTo>
                <a:lnTo>
                  <a:pt x="46" y="46"/>
                </a:lnTo>
                <a:lnTo>
                  <a:pt x="227" y="136"/>
                </a:lnTo>
                <a:lnTo>
                  <a:pt x="318" y="136"/>
                </a:lnTo>
                <a:lnTo>
                  <a:pt x="499" y="46"/>
                </a:lnTo>
                <a:lnTo>
                  <a:pt x="54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0120" y="1130400"/>
            <a:ext cx="2643120" cy="1657080"/>
          </a:xfrm>
          <a:custGeom>
            <a:avLst/>
            <a:gdLst/>
            <a:ahLst/>
            <a:rect l="l" t="t" r="r" b="b"/>
            <a:pathLst>
              <a:path w="1665" h="1044">
                <a:moveTo>
                  <a:pt x="0" y="959"/>
                </a:moveTo>
                <a:cubicBezTo>
                  <a:pt x="62" y="944"/>
                  <a:pt x="98" y="890"/>
                  <a:pt x="151" y="855"/>
                </a:cubicBezTo>
                <a:cubicBezTo>
                  <a:pt x="171" y="793"/>
                  <a:pt x="199" y="741"/>
                  <a:pt x="245" y="695"/>
                </a:cubicBezTo>
                <a:cubicBezTo>
                  <a:pt x="260" y="653"/>
                  <a:pt x="252" y="601"/>
                  <a:pt x="274" y="563"/>
                </a:cubicBezTo>
                <a:cubicBezTo>
                  <a:pt x="286" y="542"/>
                  <a:pt x="307" y="526"/>
                  <a:pt x="321" y="506"/>
                </a:cubicBezTo>
                <a:cubicBezTo>
                  <a:pt x="327" y="487"/>
                  <a:pt x="338" y="469"/>
                  <a:pt x="340" y="449"/>
                </a:cubicBezTo>
                <a:cubicBezTo>
                  <a:pt x="343" y="421"/>
                  <a:pt x="339" y="391"/>
                  <a:pt x="349" y="364"/>
                </a:cubicBezTo>
                <a:cubicBezTo>
                  <a:pt x="355" y="346"/>
                  <a:pt x="436" y="322"/>
                  <a:pt x="453" y="317"/>
                </a:cubicBezTo>
                <a:cubicBezTo>
                  <a:pt x="462" y="311"/>
                  <a:pt x="471" y="303"/>
                  <a:pt x="481" y="298"/>
                </a:cubicBezTo>
                <a:cubicBezTo>
                  <a:pt x="490" y="294"/>
                  <a:pt x="501" y="294"/>
                  <a:pt x="510" y="289"/>
                </a:cubicBezTo>
                <a:cubicBezTo>
                  <a:pt x="523" y="281"/>
                  <a:pt x="533" y="268"/>
                  <a:pt x="547" y="261"/>
                </a:cubicBezTo>
                <a:cubicBezTo>
                  <a:pt x="565" y="252"/>
                  <a:pt x="604" y="242"/>
                  <a:pt x="604" y="242"/>
                </a:cubicBezTo>
                <a:cubicBezTo>
                  <a:pt x="719" y="164"/>
                  <a:pt x="844" y="181"/>
                  <a:pt x="982" y="176"/>
                </a:cubicBezTo>
                <a:cubicBezTo>
                  <a:pt x="998" y="166"/>
                  <a:pt x="1014" y="157"/>
                  <a:pt x="1029" y="147"/>
                </a:cubicBezTo>
                <a:cubicBezTo>
                  <a:pt x="1051" y="132"/>
                  <a:pt x="1095" y="100"/>
                  <a:pt x="1095" y="100"/>
                </a:cubicBezTo>
                <a:cubicBezTo>
                  <a:pt x="1113" y="49"/>
                  <a:pt x="1152" y="36"/>
                  <a:pt x="1199" y="25"/>
                </a:cubicBezTo>
                <a:cubicBezTo>
                  <a:pt x="1461" y="36"/>
                  <a:pt x="1366" y="0"/>
                  <a:pt x="1501" y="91"/>
                </a:cubicBezTo>
                <a:cubicBezTo>
                  <a:pt x="1508" y="197"/>
                  <a:pt x="1491" y="235"/>
                  <a:pt x="1539" y="308"/>
                </a:cubicBezTo>
                <a:cubicBezTo>
                  <a:pt x="1536" y="402"/>
                  <a:pt x="1534" y="497"/>
                  <a:pt x="1529" y="591"/>
                </a:cubicBezTo>
                <a:cubicBezTo>
                  <a:pt x="1524" y="680"/>
                  <a:pt x="1517" y="728"/>
                  <a:pt x="1596" y="780"/>
                </a:cubicBezTo>
                <a:cubicBezTo>
                  <a:pt x="1665" y="887"/>
                  <a:pt x="1652" y="890"/>
                  <a:pt x="1652" y="10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52720" y="2817720"/>
            <a:ext cx="2482920" cy="451080"/>
          </a:xfrm>
          <a:custGeom>
            <a:avLst/>
            <a:gdLst/>
            <a:ahLst/>
            <a:rect l="l" t="t" r="r" b="b"/>
            <a:pathLst>
              <a:path w="1564" h="284">
                <a:moveTo>
                  <a:pt x="0" y="0"/>
                </a:moveTo>
                <a:cubicBezTo>
                  <a:pt x="9" y="1"/>
                  <a:pt x="85" y="11"/>
                  <a:pt x="104" y="19"/>
                </a:cubicBezTo>
                <a:cubicBezTo>
                  <a:pt x="132" y="31"/>
                  <a:pt x="156" y="53"/>
                  <a:pt x="189" y="57"/>
                </a:cubicBezTo>
                <a:cubicBezTo>
                  <a:pt x="251" y="64"/>
                  <a:pt x="510" y="75"/>
                  <a:pt x="538" y="76"/>
                </a:cubicBezTo>
                <a:cubicBezTo>
                  <a:pt x="606" y="120"/>
                  <a:pt x="697" y="117"/>
                  <a:pt x="774" y="123"/>
                </a:cubicBezTo>
                <a:cubicBezTo>
                  <a:pt x="951" y="137"/>
                  <a:pt x="1111" y="146"/>
                  <a:pt x="1294" y="151"/>
                </a:cubicBezTo>
                <a:cubicBezTo>
                  <a:pt x="1331" y="208"/>
                  <a:pt x="1399" y="228"/>
                  <a:pt x="1454" y="265"/>
                </a:cubicBezTo>
                <a:cubicBezTo>
                  <a:pt x="1476" y="280"/>
                  <a:pt x="1505" y="275"/>
                  <a:pt x="1530" y="283"/>
                </a:cubicBezTo>
                <a:cubicBezTo>
                  <a:pt x="1564" y="272"/>
                  <a:pt x="1558" y="284"/>
                  <a:pt x="1558" y="25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81640" y="1994040"/>
            <a:ext cx="3313080" cy="1272960"/>
          </a:xfrm>
          <a:custGeom>
            <a:avLst/>
            <a:gdLst/>
            <a:ahLst/>
            <a:rect l="l" t="t" r="r" b="b"/>
            <a:pathLst>
              <a:path w="2087" h="802">
                <a:moveTo>
                  <a:pt x="0" y="802"/>
                </a:moveTo>
                <a:cubicBezTo>
                  <a:pt x="80" y="794"/>
                  <a:pt x="110" y="786"/>
                  <a:pt x="179" y="755"/>
                </a:cubicBezTo>
                <a:cubicBezTo>
                  <a:pt x="192" y="749"/>
                  <a:pt x="204" y="741"/>
                  <a:pt x="217" y="736"/>
                </a:cubicBezTo>
                <a:cubicBezTo>
                  <a:pt x="236" y="729"/>
                  <a:pt x="274" y="718"/>
                  <a:pt x="274" y="718"/>
                </a:cubicBezTo>
                <a:cubicBezTo>
                  <a:pt x="277" y="699"/>
                  <a:pt x="272" y="677"/>
                  <a:pt x="283" y="661"/>
                </a:cubicBezTo>
                <a:cubicBezTo>
                  <a:pt x="290" y="651"/>
                  <a:pt x="399" y="642"/>
                  <a:pt x="406" y="642"/>
                </a:cubicBezTo>
                <a:cubicBezTo>
                  <a:pt x="488" y="638"/>
                  <a:pt x="569" y="636"/>
                  <a:pt x="651" y="633"/>
                </a:cubicBezTo>
                <a:cubicBezTo>
                  <a:pt x="709" y="618"/>
                  <a:pt x="747" y="611"/>
                  <a:pt x="812" y="604"/>
                </a:cubicBezTo>
                <a:cubicBezTo>
                  <a:pt x="825" y="601"/>
                  <a:pt x="840" y="603"/>
                  <a:pt x="850" y="595"/>
                </a:cubicBezTo>
                <a:cubicBezTo>
                  <a:pt x="858" y="589"/>
                  <a:pt x="850" y="571"/>
                  <a:pt x="859" y="566"/>
                </a:cubicBezTo>
                <a:cubicBezTo>
                  <a:pt x="882" y="553"/>
                  <a:pt x="910" y="556"/>
                  <a:pt x="935" y="548"/>
                </a:cubicBezTo>
                <a:cubicBezTo>
                  <a:pt x="1022" y="518"/>
                  <a:pt x="1113" y="512"/>
                  <a:pt x="1199" y="481"/>
                </a:cubicBezTo>
                <a:cubicBezTo>
                  <a:pt x="1216" y="433"/>
                  <a:pt x="1273" y="394"/>
                  <a:pt x="1322" y="378"/>
                </a:cubicBezTo>
                <a:cubicBezTo>
                  <a:pt x="1405" y="322"/>
                  <a:pt x="1529" y="325"/>
                  <a:pt x="1624" y="311"/>
                </a:cubicBezTo>
                <a:cubicBezTo>
                  <a:pt x="1646" y="304"/>
                  <a:pt x="1669" y="302"/>
                  <a:pt x="1690" y="293"/>
                </a:cubicBezTo>
                <a:cubicBezTo>
                  <a:pt x="1790" y="251"/>
                  <a:pt x="1636" y="296"/>
                  <a:pt x="1756" y="264"/>
                </a:cubicBezTo>
                <a:cubicBezTo>
                  <a:pt x="1794" y="239"/>
                  <a:pt x="1793" y="223"/>
                  <a:pt x="1803" y="179"/>
                </a:cubicBezTo>
                <a:cubicBezTo>
                  <a:pt x="1806" y="138"/>
                  <a:pt x="1783" y="85"/>
                  <a:pt x="1813" y="57"/>
                </a:cubicBezTo>
                <a:cubicBezTo>
                  <a:pt x="1845" y="27"/>
                  <a:pt x="1901" y="51"/>
                  <a:pt x="1945" y="47"/>
                </a:cubicBezTo>
                <a:cubicBezTo>
                  <a:pt x="1973" y="45"/>
                  <a:pt x="2002" y="41"/>
                  <a:pt x="2030" y="38"/>
                </a:cubicBezTo>
                <a:cubicBezTo>
                  <a:pt x="2043" y="29"/>
                  <a:pt x="2087" y="12"/>
                  <a:pt x="2087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664480" y="1353960"/>
            <a:ext cx="419040" cy="669960"/>
          </a:xfrm>
          <a:custGeom>
            <a:avLst/>
            <a:gdLst/>
            <a:ahLst/>
            <a:rect l="l" t="t" r="r" b="b"/>
            <a:pathLst>
              <a:path w="264" h="422">
                <a:moveTo>
                  <a:pt x="0" y="422"/>
                </a:moveTo>
                <a:cubicBezTo>
                  <a:pt x="3" y="409"/>
                  <a:pt x="2" y="395"/>
                  <a:pt x="9" y="384"/>
                </a:cubicBezTo>
                <a:cubicBezTo>
                  <a:pt x="24" y="362"/>
                  <a:pt x="66" y="327"/>
                  <a:pt x="66" y="327"/>
                </a:cubicBezTo>
                <a:cubicBezTo>
                  <a:pt x="69" y="318"/>
                  <a:pt x="72" y="308"/>
                  <a:pt x="75" y="299"/>
                </a:cubicBezTo>
                <a:cubicBezTo>
                  <a:pt x="79" y="286"/>
                  <a:pt x="81" y="274"/>
                  <a:pt x="85" y="261"/>
                </a:cubicBezTo>
                <a:cubicBezTo>
                  <a:pt x="91" y="242"/>
                  <a:pt x="104" y="205"/>
                  <a:pt x="104" y="205"/>
                </a:cubicBezTo>
                <a:cubicBezTo>
                  <a:pt x="109" y="176"/>
                  <a:pt x="119" y="149"/>
                  <a:pt x="123" y="120"/>
                </a:cubicBezTo>
                <a:cubicBezTo>
                  <a:pt x="128" y="89"/>
                  <a:pt x="106" y="43"/>
                  <a:pt x="132" y="25"/>
                </a:cubicBezTo>
                <a:cubicBezTo>
                  <a:pt x="168" y="0"/>
                  <a:pt x="220" y="25"/>
                  <a:pt x="264" y="2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00360" y="1268280"/>
            <a:ext cx="1800360" cy="1800360"/>
          </a:xfrm>
          <a:custGeom>
            <a:avLst/>
            <a:gdLst/>
            <a:ahLst/>
            <a:rect l="l" t="t" r="r" b="b"/>
            <a:pathLst>
              <a:path w="963" h="1020">
                <a:moveTo>
                  <a:pt x="0" y="0"/>
                </a:moveTo>
                <a:cubicBezTo>
                  <a:pt x="13" y="3"/>
                  <a:pt x="26" y="4"/>
                  <a:pt x="38" y="10"/>
                </a:cubicBezTo>
                <a:cubicBezTo>
                  <a:pt x="58" y="20"/>
                  <a:pt x="94" y="48"/>
                  <a:pt x="94" y="48"/>
                </a:cubicBezTo>
                <a:cubicBezTo>
                  <a:pt x="110" y="92"/>
                  <a:pt x="121" y="131"/>
                  <a:pt x="160" y="161"/>
                </a:cubicBezTo>
                <a:cubicBezTo>
                  <a:pt x="178" y="175"/>
                  <a:pt x="217" y="199"/>
                  <a:pt x="217" y="199"/>
                </a:cubicBezTo>
                <a:cubicBezTo>
                  <a:pt x="243" y="271"/>
                  <a:pt x="205" y="178"/>
                  <a:pt x="255" y="255"/>
                </a:cubicBezTo>
                <a:cubicBezTo>
                  <a:pt x="261" y="263"/>
                  <a:pt x="257" y="277"/>
                  <a:pt x="264" y="284"/>
                </a:cubicBezTo>
                <a:cubicBezTo>
                  <a:pt x="284" y="305"/>
                  <a:pt x="366" y="339"/>
                  <a:pt x="396" y="359"/>
                </a:cubicBezTo>
                <a:cubicBezTo>
                  <a:pt x="407" y="382"/>
                  <a:pt x="424" y="402"/>
                  <a:pt x="434" y="425"/>
                </a:cubicBezTo>
                <a:cubicBezTo>
                  <a:pt x="447" y="455"/>
                  <a:pt x="442" y="503"/>
                  <a:pt x="463" y="529"/>
                </a:cubicBezTo>
                <a:cubicBezTo>
                  <a:pt x="470" y="538"/>
                  <a:pt x="482" y="541"/>
                  <a:pt x="491" y="548"/>
                </a:cubicBezTo>
                <a:cubicBezTo>
                  <a:pt x="560" y="606"/>
                  <a:pt x="625" y="631"/>
                  <a:pt x="699" y="680"/>
                </a:cubicBezTo>
                <a:cubicBezTo>
                  <a:pt x="708" y="709"/>
                  <a:pt x="711" y="753"/>
                  <a:pt x="736" y="775"/>
                </a:cubicBezTo>
                <a:cubicBezTo>
                  <a:pt x="753" y="790"/>
                  <a:pt x="774" y="800"/>
                  <a:pt x="793" y="812"/>
                </a:cubicBezTo>
                <a:cubicBezTo>
                  <a:pt x="802" y="818"/>
                  <a:pt x="821" y="831"/>
                  <a:pt x="821" y="831"/>
                </a:cubicBezTo>
                <a:cubicBezTo>
                  <a:pt x="854" y="882"/>
                  <a:pt x="901" y="922"/>
                  <a:pt x="935" y="973"/>
                </a:cubicBezTo>
                <a:cubicBezTo>
                  <a:pt x="946" y="1018"/>
                  <a:pt x="932" y="1005"/>
                  <a:pt x="963" y="102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35280" y="765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19280" y="549360"/>
            <a:ext cx="43164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ree"/>
          <p:cNvSpPr/>
          <p:nvPr/>
        </p:nvSpPr>
        <p:spPr>
          <a:xfrm>
            <a:off x="7093080" y="2276640"/>
            <a:ext cx="399960" cy="47304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ree"/>
          <p:cNvSpPr/>
          <p:nvPr/>
        </p:nvSpPr>
        <p:spPr>
          <a:xfrm>
            <a:off x="7812000" y="2133720"/>
            <a:ext cx="399960" cy="47304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ree"/>
          <p:cNvSpPr/>
          <p:nvPr/>
        </p:nvSpPr>
        <p:spPr>
          <a:xfrm>
            <a:off x="7524720" y="2133720"/>
            <a:ext cx="399960" cy="47304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ree"/>
          <p:cNvSpPr/>
          <p:nvPr/>
        </p:nvSpPr>
        <p:spPr>
          <a:xfrm>
            <a:off x="7308720" y="2276640"/>
            <a:ext cx="400320" cy="47304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500720" y="981000"/>
            <a:ext cx="14256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740720" y="1197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58920" y="125280"/>
            <a:ext cx="117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usion of savage on top of h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78920" y="836640"/>
            <a:ext cx="36036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00" y="189000"/>
            <a:ext cx="1172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s start encounter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54400" y="115920"/>
            <a:ext cx="11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usory Hill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00360" y="692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24000" y="115920"/>
            <a:ext cx="117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ainbow patter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s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ree"/>
          <p:cNvSpPr/>
          <p:nvPr/>
        </p:nvSpPr>
        <p:spPr>
          <a:xfrm>
            <a:off x="3811680" y="2379600"/>
            <a:ext cx="399960" cy="473040"/>
          </a:xfr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ree"/>
          <p:cNvSpPr/>
          <p:nvPr/>
        </p:nvSpPr>
        <p:spPr>
          <a:xfrm>
            <a:off x="4500720" y="2595600"/>
            <a:ext cx="399960" cy="473040"/>
          </a:xfr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ree"/>
          <p:cNvSpPr/>
          <p:nvPr/>
        </p:nvSpPr>
        <p:spPr>
          <a:xfrm>
            <a:off x="4213080" y="2595600"/>
            <a:ext cx="400320" cy="473040"/>
          </a:xfr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ree"/>
          <p:cNvSpPr/>
          <p:nvPr/>
        </p:nvSpPr>
        <p:spPr>
          <a:xfrm>
            <a:off x="3997440" y="2523960"/>
            <a:ext cx="399960" cy="473400"/>
          </a:xfr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40360" y="115920"/>
            <a:ext cx="117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usory co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 illusory sav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ree"/>
          <p:cNvSpPr/>
          <p:nvPr/>
        </p:nvSpPr>
        <p:spPr>
          <a:xfrm>
            <a:off x="6516720" y="2421000"/>
            <a:ext cx="399960" cy="473040"/>
          </a:xfr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ree"/>
          <p:cNvSpPr/>
          <p:nvPr/>
        </p:nvSpPr>
        <p:spPr>
          <a:xfrm>
            <a:off x="6732720" y="2349360"/>
            <a:ext cx="399960" cy="473040"/>
          </a:xfr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164360" y="260280"/>
            <a:ext cx="117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l copse with main body of sav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6000" y="260280"/>
            <a:ext cx="117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usory tree -line with real sav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99280" y="907920"/>
            <a:ext cx="43344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59280" y="335772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2240" y="3141720"/>
            <a:ext cx="25887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ps for Smoke and Mi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4005360"/>
            <a:ext cx="374760" cy="2760480"/>
          </a:xfrm>
          <a:custGeom>
            <a:avLst/>
            <a:gdLst/>
            <a:ahLst/>
            <a:rect l="l" t="t" r="r" b="b"/>
            <a:pathLst>
              <a:path w="236" h="1739">
                <a:moveTo>
                  <a:pt x="236" y="1"/>
                </a:moveTo>
                <a:cubicBezTo>
                  <a:pt x="183" y="37"/>
                  <a:pt x="226" y="0"/>
                  <a:pt x="199" y="48"/>
                </a:cubicBezTo>
                <a:cubicBezTo>
                  <a:pt x="188" y="68"/>
                  <a:pt x="161" y="105"/>
                  <a:pt x="161" y="105"/>
                </a:cubicBezTo>
                <a:cubicBezTo>
                  <a:pt x="140" y="171"/>
                  <a:pt x="170" y="91"/>
                  <a:pt x="123" y="162"/>
                </a:cubicBezTo>
                <a:cubicBezTo>
                  <a:pt x="118" y="170"/>
                  <a:pt x="118" y="181"/>
                  <a:pt x="114" y="190"/>
                </a:cubicBezTo>
                <a:cubicBezTo>
                  <a:pt x="109" y="200"/>
                  <a:pt x="101" y="209"/>
                  <a:pt x="95" y="218"/>
                </a:cubicBezTo>
                <a:cubicBezTo>
                  <a:pt x="110" y="316"/>
                  <a:pt x="112" y="418"/>
                  <a:pt x="57" y="502"/>
                </a:cubicBezTo>
                <a:cubicBezTo>
                  <a:pt x="36" y="566"/>
                  <a:pt x="39" y="634"/>
                  <a:pt x="29" y="700"/>
                </a:cubicBezTo>
                <a:cubicBezTo>
                  <a:pt x="27" y="713"/>
                  <a:pt x="23" y="725"/>
                  <a:pt x="19" y="738"/>
                </a:cubicBezTo>
                <a:cubicBezTo>
                  <a:pt x="13" y="757"/>
                  <a:pt x="0" y="794"/>
                  <a:pt x="0" y="794"/>
                </a:cubicBezTo>
                <a:cubicBezTo>
                  <a:pt x="3" y="1065"/>
                  <a:pt x="4" y="1335"/>
                  <a:pt x="10" y="1606"/>
                </a:cubicBezTo>
                <a:cubicBezTo>
                  <a:pt x="12" y="1677"/>
                  <a:pt x="95" y="1677"/>
                  <a:pt x="95" y="173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19440" y="3882960"/>
            <a:ext cx="374760" cy="2832120"/>
          </a:xfrm>
          <a:custGeom>
            <a:avLst/>
            <a:gdLst/>
            <a:ahLst/>
            <a:rect l="l" t="t" r="r" b="b"/>
            <a:pathLst>
              <a:path w="236" h="1784">
                <a:moveTo>
                  <a:pt x="62" y="0"/>
                </a:moveTo>
                <a:cubicBezTo>
                  <a:pt x="68" y="9"/>
                  <a:pt x="76" y="18"/>
                  <a:pt x="81" y="28"/>
                </a:cubicBezTo>
                <a:cubicBezTo>
                  <a:pt x="86" y="37"/>
                  <a:pt x="86" y="48"/>
                  <a:pt x="91" y="56"/>
                </a:cubicBezTo>
                <a:cubicBezTo>
                  <a:pt x="98" y="67"/>
                  <a:pt x="111" y="74"/>
                  <a:pt x="119" y="85"/>
                </a:cubicBezTo>
                <a:cubicBezTo>
                  <a:pt x="133" y="103"/>
                  <a:pt x="144" y="122"/>
                  <a:pt x="157" y="141"/>
                </a:cubicBezTo>
                <a:cubicBezTo>
                  <a:pt x="163" y="151"/>
                  <a:pt x="176" y="170"/>
                  <a:pt x="176" y="170"/>
                </a:cubicBezTo>
                <a:cubicBezTo>
                  <a:pt x="179" y="179"/>
                  <a:pt x="185" y="188"/>
                  <a:pt x="185" y="198"/>
                </a:cubicBezTo>
                <a:cubicBezTo>
                  <a:pt x="185" y="252"/>
                  <a:pt x="203" y="372"/>
                  <a:pt x="138" y="415"/>
                </a:cubicBezTo>
                <a:cubicBezTo>
                  <a:pt x="120" y="427"/>
                  <a:pt x="99" y="432"/>
                  <a:pt x="81" y="443"/>
                </a:cubicBezTo>
                <a:cubicBezTo>
                  <a:pt x="60" y="474"/>
                  <a:pt x="37" y="484"/>
                  <a:pt x="24" y="519"/>
                </a:cubicBezTo>
                <a:cubicBezTo>
                  <a:pt x="3" y="693"/>
                  <a:pt x="0" y="779"/>
                  <a:pt x="15" y="991"/>
                </a:cubicBezTo>
                <a:cubicBezTo>
                  <a:pt x="16" y="1011"/>
                  <a:pt x="28" y="1029"/>
                  <a:pt x="34" y="1048"/>
                </a:cubicBezTo>
                <a:cubicBezTo>
                  <a:pt x="37" y="1057"/>
                  <a:pt x="43" y="1076"/>
                  <a:pt x="43" y="1076"/>
                </a:cubicBezTo>
                <a:cubicBezTo>
                  <a:pt x="46" y="1152"/>
                  <a:pt x="44" y="1228"/>
                  <a:pt x="53" y="1303"/>
                </a:cubicBezTo>
                <a:cubicBezTo>
                  <a:pt x="54" y="1314"/>
                  <a:pt x="67" y="1321"/>
                  <a:pt x="72" y="1331"/>
                </a:cubicBezTo>
                <a:cubicBezTo>
                  <a:pt x="80" y="1349"/>
                  <a:pt x="91" y="1388"/>
                  <a:pt x="91" y="1388"/>
                </a:cubicBezTo>
                <a:cubicBezTo>
                  <a:pt x="94" y="1429"/>
                  <a:pt x="95" y="1470"/>
                  <a:pt x="100" y="1510"/>
                </a:cubicBezTo>
                <a:cubicBezTo>
                  <a:pt x="100" y="1512"/>
                  <a:pt x="117" y="1565"/>
                  <a:pt x="119" y="1567"/>
                </a:cubicBezTo>
                <a:cubicBezTo>
                  <a:pt x="137" y="1581"/>
                  <a:pt x="163" y="1579"/>
                  <a:pt x="185" y="1586"/>
                </a:cubicBezTo>
                <a:cubicBezTo>
                  <a:pt x="236" y="1661"/>
                  <a:pt x="204" y="1603"/>
                  <a:pt x="204" y="17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91120" y="3836880"/>
            <a:ext cx="412920" cy="2833920"/>
          </a:xfrm>
          <a:custGeom>
            <a:avLst/>
            <a:gdLst/>
            <a:ahLst/>
            <a:rect l="l" t="t" r="r" b="b"/>
            <a:pathLst>
              <a:path w="260" h="1785">
                <a:moveTo>
                  <a:pt x="32" y="0"/>
                </a:moveTo>
                <a:cubicBezTo>
                  <a:pt x="36" y="116"/>
                  <a:pt x="0" y="252"/>
                  <a:pt x="88" y="340"/>
                </a:cubicBezTo>
                <a:cubicBezTo>
                  <a:pt x="101" y="390"/>
                  <a:pt x="140" y="425"/>
                  <a:pt x="164" y="472"/>
                </a:cubicBezTo>
                <a:cubicBezTo>
                  <a:pt x="148" y="765"/>
                  <a:pt x="260" y="1162"/>
                  <a:pt x="107" y="1388"/>
                </a:cubicBezTo>
                <a:cubicBezTo>
                  <a:pt x="110" y="1473"/>
                  <a:pt x="111" y="1558"/>
                  <a:pt x="117" y="1643"/>
                </a:cubicBezTo>
                <a:cubicBezTo>
                  <a:pt x="120" y="1691"/>
                  <a:pt x="145" y="1736"/>
                  <a:pt x="145" y="178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35640" y="3860640"/>
            <a:ext cx="412560" cy="2833920"/>
          </a:xfrm>
          <a:custGeom>
            <a:avLst/>
            <a:gdLst/>
            <a:ahLst/>
            <a:rect l="l" t="t" r="r" b="b"/>
            <a:pathLst>
              <a:path w="260" h="1785">
                <a:moveTo>
                  <a:pt x="32" y="0"/>
                </a:moveTo>
                <a:cubicBezTo>
                  <a:pt x="36" y="116"/>
                  <a:pt x="0" y="252"/>
                  <a:pt x="88" y="340"/>
                </a:cubicBezTo>
                <a:cubicBezTo>
                  <a:pt x="101" y="390"/>
                  <a:pt x="140" y="425"/>
                  <a:pt x="164" y="472"/>
                </a:cubicBezTo>
                <a:cubicBezTo>
                  <a:pt x="148" y="765"/>
                  <a:pt x="260" y="1162"/>
                  <a:pt x="107" y="1388"/>
                </a:cubicBezTo>
                <a:cubicBezTo>
                  <a:pt x="110" y="1473"/>
                  <a:pt x="111" y="1558"/>
                  <a:pt x="117" y="1643"/>
                </a:cubicBezTo>
                <a:cubicBezTo>
                  <a:pt x="120" y="1691"/>
                  <a:pt x="145" y="1736"/>
                  <a:pt x="145" y="178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750080" y="3448080"/>
            <a:ext cx="209520" cy="3297240"/>
          </a:xfrm>
          <a:custGeom>
            <a:avLst/>
            <a:gdLst/>
            <a:ahLst/>
            <a:rect l="l" t="t" r="r" b="b"/>
            <a:pathLst>
              <a:path w="132" h="2077">
                <a:moveTo>
                  <a:pt x="132" y="0"/>
                </a:moveTo>
                <a:cubicBezTo>
                  <a:pt x="96" y="107"/>
                  <a:pt x="116" y="30"/>
                  <a:pt x="104" y="208"/>
                </a:cubicBezTo>
                <a:cubicBezTo>
                  <a:pt x="94" y="348"/>
                  <a:pt x="97" y="309"/>
                  <a:pt x="75" y="444"/>
                </a:cubicBezTo>
                <a:cubicBezTo>
                  <a:pt x="65" y="502"/>
                  <a:pt x="18" y="548"/>
                  <a:pt x="0" y="604"/>
                </a:cubicBezTo>
                <a:cubicBezTo>
                  <a:pt x="6" y="776"/>
                  <a:pt x="8" y="944"/>
                  <a:pt x="38" y="1114"/>
                </a:cubicBezTo>
                <a:cubicBezTo>
                  <a:pt x="44" y="1226"/>
                  <a:pt x="51" y="1304"/>
                  <a:pt x="75" y="1407"/>
                </a:cubicBezTo>
                <a:cubicBezTo>
                  <a:pt x="72" y="1615"/>
                  <a:pt x="75" y="1823"/>
                  <a:pt x="66" y="2030"/>
                </a:cubicBezTo>
                <a:cubicBezTo>
                  <a:pt x="66" y="2041"/>
                  <a:pt x="51" y="2048"/>
                  <a:pt x="47" y="2058"/>
                </a:cubicBezTo>
                <a:cubicBezTo>
                  <a:pt x="45" y="2064"/>
                  <a:pt x="47" y="2071"/>
                  <a:pt x="47" y="207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91280" y="3500280"/>
            <a:ext cx="865440" cy="3241800"/>
          </a:xfrm>
          <a:custGeom>
            <a:avLst/>
            <a:gdLst/>
            <a:ahLst/>
            <a:rect l="l" t="t" r="r" b="b"/>
            <a:pathLst>
              <a:path w="545" h="2042">
                <a:moveTo>
                  <a:pt x="545" y="182"/>
                </a:moveTo>
                <a:lnTo>
                  <a:pt x="545" y="91"/>
                </a:lnTo>
                <a:lnTo>
                  <a:pt x="454" y="0"/>
                </a:lnTo>
                <a:lnTo>
                  <a:pt x="182" y="0"/>
                </a:lnTo>
                <a:lnTo>
                  <a:pt x="136" y="136"/>
                </a:lnTo>
                <a:lnTo>
                  <a:pt x="91" y="318"/>
                </a:lnTo>
                <a:lnTo>
                  <a:pt x="46" y="409"/>
                </a:lnTo>
                <a:lnTo>
                  <a:pt x="0" y="635"/>
                </a:lnTo>
                <a:lnTo>
                  <a:pt x="0" y="726"/>
                </a:lnTo>
                <a:lnTo>
                  <a:pt x="91" y="908"/>
                </a:lnTo>
                <a:lnTo>
                  <a:pt x="136" y="1089"/>
                </a:lnTo>
                <a:lnTo>
                  <a:pt x="136" y="1361"/>
                </a:lnTo>
                <a:cubicBezTo>
                  <a:pt x="109" y="1496"/>
                  <a:pt x="120" y="1413"/>
                  <a:pt x="120" y="1610"/>
                </a:cubicBezTo>
                <a:lnTo>
                  <a:pt x="91" y="1679"/>
                </a:lnTo>
                <a:lnTo>
                  <a:pt x="136" y="1860"/>
                </a:lnTo>
                <a:lnTo>
                  <a:pt x="136" y="1951"/>
                </a:lnTo>
                <a:lnTo>
                  <a:pt x="272" y="1996"/>
                </a:lnTo>
                <a:lnTo>
                  <a:pt x="363" y="2042"/>
                </a:lnTo>
                <a:lnTo>
                  <a:pt x="454" y="2042"/>
                </a:lnTo>
                <a:lnTo>
                  <a:pt x="545" y="1588"/>
                </a:lnTo>
                <a:lnTo>
                  <a:pt x="499" y="998"/>
                </a:lnTo>
                <a:lnTo>
                  <a:pt x="454" y="590"/>
                </a:lnTo>
                <a:lnTo>
                  <a:pt x="545" y="182"/>
                </a:lnTo>
                <a:close/>
              </a:path>
            </a:pathLst>
          </a:custGeom>
          <a:solidFill>
            <a:srgbClr val="108b0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4581360"/>
            <a:ext cx="358920" cy="1872000"/>
          </a:xfrm>
          <a:custGeom>
            <a:avLst/>
            <a:gdLst/>
            <a:ahLst/>
            <a:rect l="l" t="t" r="r" b="b"/>
            <a:pathLst>
              <a:path w="226" h="1179">
                <a:moveTo>
                  <a:pt x="136" y="0"/>
                </a:moveTo>
                <a:lnTo>
                  <a:pt x="45" y="90"/>
                </a:lnTo>
                <a:lnTo>
                  <a:pt x="0" y="408"/>
                </a:lnTo>
                <a:lnTo>
                  <a:pt x="45" y="771"/>
                </a:lnTo>
                <a:lnTo>
                  <a:pt x="90" y="952"/>
                </a:lnTo>
                <a:lnTo>
                  <a:pt x="90" y="1134"/>
                </a:lnTo>
                <a:lnTo>
                  <a:pt x="226" y="1179"/>
                </a:ln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4292640"/>
            <a:ext cx="936720" cy="2376360"/>
          </a:xfrm>
          <a:custGeom>
            <a:avLst/>
            <a:gdLst/>
            <a:ahLst/>
            <a:rect l="l" t="t" r="r" b="b"/>
            <a:pathLst>
              <a:path w="590" h="1497">
                <a:moveTo>
                  <a:pt x="408" y="0"/>
                </a:moveTo>
                <a:lnTo>
                  <a:pt x="136" y="46"/>
                </a:lnTo>
                <a:lnTo>
                  <a:pt x="0" y="227"/>
                </a:lnTo>
                <a:lnTo>
                  <a:pt x="0" y="454"/>
                </a:lnTo>
                <a:lnTo>
                  <a:pt x="0" y="726"/>
                </a:lnTo>
                <a:lnTo>
                  <a:pt x="45" y="1044"/>
                </a:lnTo>
                <a:lnTo>
                  <a:pt x="91" y="1270"/>
                </a:lnTo>
                <a:lnTo>
                  <a:pt x="317" y="1452"/>
                </a:lnTo>
                <a:lnTo>
                  <a:pt x="544" y="1497"/>
                </a:lnTo>
                <a:lnTo>
                  <a:pt x="544" y="1316"/>
                </a:lnTo>
                <a:lnTo>
                  <a:pt x="544" y="1044"/>
                </a:lnTo>
                <a:lnTo>
                  <a:pt x="590" y="726"/>
                </a:lnTo>
                <a:lnTo>
                  <a:pt x="590" y="409"/>
                </a:lnTo>
                <a:lnTo>
                  <a:pt x="544" y="91"/>
                </a:lnTo>
                <a:lnTo>
                  <a:pt x="408" y="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1849680" y="5068080"/>
            <a:ext cx="11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90760" y="409104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tle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11280" y="645336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tle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3240" y="2322360"/>
            <a:ext cx="13680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oss-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84680" y="3619440"/>
            <a:ext cx="1035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ial 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95640" y="401796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usory co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5820840" y="4964760"/>
            <a:ext cx="140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usory tree -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5445000"/>
            <a:ext cx="865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9120" y="4869000"/>
            <a:ext cx="11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s moving this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052720" y="3397320"/>
            <a:ext cx="2087640" cy="1079280"/>
          </a:xfrm>
          <a:custGeom>
            <a:avLst/>
            <a:gdLst/>
            <a:ahLst/>
            <a:rect l="l" t="t" r="r" b="b"/>
            <a:pathLst>
              <a:path w="1315" h="680">
                <a:moveTo>
                  <a:pt x="0" y="272"/>
                </a:moveTo>
                <a:lnTo>
                  <a:pt x="0" y="499"/>
                </a:lnTo>
                <a:lnTo>
                  <a:pt x="363" y="680"/>
                </a:lnTo>
                <a:lnTo>
                  <a:pt x="817" y="680"/>
                </a:lnTo>
                <a:lnTo>
                  <a:pt x="1315" y="544"/>
                </a:lnTo>
                <a:lnTo>
                  <a:pt x="1315" y="272"/>
                </a:lnTo>
                <a:lnTo>
                  <a:pt x="953" y="45"/>
                </a:lnTo>
                <a:lnTo>
                  <a:pt x="726" y="45"/>
                </a:lnTo>
                <a:lnTo>
                  <a:pt x="680" y="0"/>
                </a:lnTo>
                <a:lnTo>
                  <a:pt x="454" y="0"/>
                </a:lnTo>
                <a:lnTo>
                  <a:pt x="91" y="13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7640" y="115920"/>
            <a:ext cx="2626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aps for Assault on Pare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240" y="5910120"/>
            <a:ext cx="9069480" cy="644760"/>
          </a:xfrm>
          <a:custGeom>
            <a:avLst/>
            <a:gdLst/>
            <a:ahLst/>
            <a:rect l="l" t="t" r="r" b="b"/>
            <a:pathLst>
              <a:path w="5713" h="406">
                <a:moveTo>
                  <a:pt x="0" y="283"/>
                </a:moveTo>
                <a:cubicBezTo>
                  <a:pt x="178" y="277"/>
                  <a:pt x="411" y="264"/>
                  <a:pt x="585" y="283"/>
                </a:cubicBezTo>
                <a:cubicBezTo>
                  <a:pt x="610" y="286"/>
                  <a:pt x="615" y="323"/>
                  <a:pt x="633" y="340"/>
                </a:cubicBezTo>
                <a:cubicBezTo>
                  <a:pt x="645" y="377"/>
                  <a:pt x="651" y="394"/>
                  <a:pt x="689" y="406"/>
                </a:cubicBezTo>
                <a:cubicBezTo>
                  <a:pt x="790" y="403"/>
                  <a:pt x="891" y="405"/>
                  <a:pt x="991" y="397"/>
                </a:cubicBezTo>
                <a:cubicBezTo>
                  <a:pt x="1005" y="396"/>
                  <a:pt x="1015" y="381"/>
                  <a:pt x="1029" y="378"/>
                </a:cubicBezTo>
                <a:cubicBezTo>
                  <a:pt x="1066" y="371"/>
                  <a:pt x="1104" y="371"/>
                  <a:pt x="1142" y="368"/>
                </a:cubicBezTo>
                <a:cubicBezTo>
                  <a:pt x="1262" y="381"/>
                  <a:pt x="1381" y="396"/>
                  <a:pt x="1501" y="406"/>
                </a:cubicBezTo>
                <a:cubicBezTo>
                  <a:pt x="1607" y="400"/>
                  <a:pt x="1694" y="391"/>
                  <a:pt x="1794" y="359"/>
                </a:cubicBezTo>
                <a:cubicBezTo>
                  <a:pt x="1826" y="338"/>
                  <a:pt x="1851" y="331"/>
                  <a:pt x="1888" y="321"/>
                </a:cubicBezTo>
                <a:cubicBezTo>
                  <a:pt x="2043" y="327"/>
                  <a:pt x="2140" y="323"/>
                  <a:pt x="2276" y="359"/>
                </a:cubicBezTo>
                <a:cubicBezTo>
                  <a:pt x="2330" y="347"/>
                  <a:pt x="2442" y="327"/>
                  <a:pt x="2493" y="293"/>
                </a:cubicBezTo>
                <a:cubicBezTo>
                  <a:pt x="2575" y="238"/>
                  <a:pt x="2528" y="264"/>
                  <a:pt x="2634" y="217"/>
                </a:cubicBezTo>
                <a:cubicBezTo>
                  <a:pt x="2713" y="256"/>
                  <a:pt x="2694" y="287"/>
                  <a:pt x="2710" y="387"/>
                </a:cubicBezTo>
                <a:cubicBezTo>
                  <a:pt x="3040" y="377"/>
                  <a:pt x="3361" y="355"/>
                  <a:pt x="3692" y="349"/>
                </a:cubicBezTo>
                <a:cubicBezTo>
                  <a:pt x="3884" y="303"/>
                  <a:pt x="4281" y="324"/>
                  <a:pt x="4410" y="321"/>
                </a:cubicBezTo>
                <a:cubicBezTo>
                  <a:pt x="4467" y="315"/>
                  <a:pt x="4526" y="320"/>
                  <a:pt x="4580" y="302"/>
                </a:cubicBezTo>
                <a:cubicBezTo>
                  <a:pt x="4600" y="295"/>
                  <a:pt x="4629" y="177"/>
                  <a:pt x="4646" y="151"/>
                </a:cubicBezTo>
                <a:cubicBezTo>
                  <a:pt x="4658" y="113"/>
                  <a:pt x="4673" y="81"/>
                  <a:pt x="4693" y="47"/>
                </a:cubicBezTo>
                <a:cubicBezTo>
                  <a:pt x="4700" y="35"/>
                  <a:pt x="4701" y="19"/>
                  <a:pt x="4712" y="10"/>
                </a:cubicBezTo>
                <a:cubicBezTo>
                  <a:pt x="4722" y="2"/>
                  <a:pt x="4737" y="3"/>
                  <a:pt x="4750" y="0"/>
                </a:cubicBezTo>
                <a:cubicBezTo>
                  <a:pt x="4807" y="10"/>
                  <a:pt x="4862" y="29"/>
                  <a:pt x="4919" y="38"/>
                </a:cubicBezTo>
                <a:cubicBezTo>
                  <a:pt x="5016" y="53"/>
                  <a:pt x="5115" y="56"/>
                  <a:pt x="5212" y="66"/>
                </a:cubicBezTo>
                <a:cubicBezTo>
                  <a:pt x="5268" y="85"/>
                  <a:pt x="5324" y="109"/>
                  <a:pt x="5382" y="123"/>
                </a:cubicBezTo>
                <a:cubicBezTo>
                  <a:pt x="5413" y="130"/>
                  <a:pt x="5477" y="142"/>
                  <a:pt x="5477" y="142"/>
                </a:cubicBezTo>
                <a:cubicBezTo>
                  <a:pt x="5505" y="139"/>
                  <a:pt x="5533" y="132"/>
                  <a:pt x="5562" y="132"/>
                </a:cubicBezTo>
                <a:cubicBezTo>
                  <a:pt x="5620" y="132"/>
                  <a:pt x="5580" y="151"/>
                  <a:pt x="5637" y="161"/>
                </a:cubicBezTo>
                <a:cubicBezTo>
                  <a:pt x="5662" y="165"/>
                  <a:pt x="5688" y="161"/>
                  <a:pt x="5713" y="161"/>
                </a:cubicBezTo>
              </a:path>
            </a:pathLst>
          </a:custGeom>
          <a:noFill/>
          <a:ln w="28440">
            <a:solidFill>
              <a:srgbClr val="108b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4760" y="465120"/>
            <a:ext cx="8889840" cy="719280"/>
          </a:xfrm>
          <a:custGeom>
            <a:avLst/>
            <a:gdLst/>
            <a:ahLst/>
            <a:rect l="l" t="t" r="r" b="b"/>
            <a:pathLst>
              <a:path w="5600" h="453">
                <a:moveTo>
                  <a:pt x="0" y="368"/>
                </a:moveTo>
                <a:cubicBezTo>
                  <a:pt x="142" y="365"/>
                  <a:pt x="283" y="365"/>
                  <a:pt x="425" y="359"/>
                </a:cubicBezTo>
                <a:cubicBezTo>
                  <a:pt x="508" y="356"/>
                  <a:pt x="596" y="328"/>
                  <a:pt x="680" y="321"/>
                </a:cubicBezTo>
                <a:cubicBezTo>
                  <a:pt x="970" y="217"/>
                  <a:pt x="1597" y="228"/>
                  <a:pt x="1841" y="226"/>
                </a:cubicBezTo>
                <a:cubicBezTo>
                  <a:pt x="2307" y="222"/>
                  <a:pt x="2773" y="220"/>
                  <a:pt x="3239" y="217"/>
                </a:cubicBezTo>
                <a:cubicBezTo>
                  <a:pt x="3266" y="207"/>
                  <a:pt x="3297" y="209"/>
                  <a:pt x="3324" y="198"/>
                </a:cubicBezTo>
                <a:cubicBezTo>
                  <a:pt x="3345" y="189"/>
                  <a:pt x="3358" y="164"/>
                  <a:pt x="3381" y="160"/>
                </a:cubicBezTo>
                <a:cubicBezTo>
                  <a:pt x="3512" y="139"/>
                  <a:pt x="3418" y="152"/>
                  <a:pt x="3664" y="141"/>
                </a:cubicBezTo>
                <a:cubicBezTo>
                  <a:pt x="3703" y="84"/>
                  <a:pt x="3771" y="45"/>
                  <a:pt x="3824" y="0"/>
                </a:cubicBezTo>
                <a:cubicBezTo>
                  <a:pt x="3821" y="35"/>
                  <a:pt x="3794" y="76"/>
                  <a:pt x="3815" y="104"/>
                </a:cubicBezTo>
                <a:cubicBezTo>
                  <a:pt x="3834" y="129"/>
                  <a:pt x="3879" y="104"/>
                  <a:pt x="3909" y="113"/>
                </a:cubicBezTo>
                <a:cubicBezTo>
                  <a:pt x="3947" y="124"/>
                  <a:pt x="3944" y="181"/>
                  <a:pt x="3985" y="189"/>
                </a:cubicBezTo>
                <a:cubicBezTo>
                  <a:pt x="4041" y="199"/>
                  <a:pt x="4155" y="207"/>
                  <a:pt x="4155" y="207"/>
                </a:cubicBezTo>
                <a:cubicBezTo>
                  <a:pt x="4416" y="300"/>
                  <a:pt x="4709" y="232"/>
                  <a:pt x="4986" y="236"/>
                </a:cubicBezTo>
                <a:cubicBezTo>
                  <a:pt x="5078" y="299"/>
                  <a:pt x="5178" y="304"/>
                  <a:pt x="5288" y="311"/>
                </a:cubicBezTo>
                <a:cubicBezTo>
                  <a:pt x="5402" y="341"/>
                  <a:pt x="5476" y="453"/>
                  <a:pt x="5600" y="453"/>
                </a:cubicBezTo>
              </a:path>
            </a:pathLst>
          </a:custGeom>
          <a:noFill/>
          <a:ln w="28440">
            <a:solidFill>
              <a:srgbClr val="108b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66080" y="2205000"/>
            <a:ext cx="2071440" cy="1963800"/>
          </a:xfrm>
          <a:custGeom>
            <a:avLst/>
            <a:gdLst/>
            <a:ahLst/>
            <a:rect l="l" t="t" r="r" b="b"/>
            <a:pathLst>
              <a:path w="1305" h="1237">
                <a:moveTo>
                  <a:pt x="204" y="217"/>
                </a:moveTo>
                <a:cubicBezTo>
                  <a:pt x="127" y="242"/>
                  <a:pt x="82" y="277"/>
                  <a:pt x="34" y="339"/>
                </a:cubicBezTo>
                <a:cubicBezTo>
                  <a:pt x="0" y="450"/>
                  <a:pt x="0" y="661"/>
                  <a:pt x="25" y="783"/>
                </a:cubicBezTo>
                <a:cubicBezTo>
                  <a:pt x="28" y="800"/>
                  <a:pt x="83" y="810"/>
                  <a:pt x="91" y="812"/>
                </a:cubicBezTo>
                <a:cubicBezTo>
                  <a:pt x="103" y="849"/>
                  <a:pt x="95" y="903"/>
                  <a:pt x="119" y="934"/>
                </a:cubicBezTo>
                <a:cubicBezTo>
                  <a:pt x="135" y="955"/>
                  <a:pt x="154" y="976"/>
                  <a:pt x="176" y="991"/>
                </a:cubicBezTo>
                <a:cubicBezTo>
                  <a:pt x="195" y="1004"/>
                  <a:pt x="233" y="1029"/>
                  <a:pt x="233" y="1029"/>
                </a:cubicBezTo>
                <a:cubicBezTo>
                  <a:pt x="254" y="1062"/>
                  <a:pt x="271" y="1073"/>
                  <a:pt x="308" y="1085"/>
                </a:cubicBezTo>
                <a:cubicBezTo>
                  <a:pt x="398" y="1154"/>
                  <a:pt x="540" y="1163"/>
                  <a:pt x="648" y="1170"/>
                </a:cubicBezTo>
                <a:cubicBezTo>
                  <a:pt x="732" y="1200"/>
                  <a:pt x="614" y="1160"/>
                  <a:pt x="818" y="1199"/>
                </a:cubicBezTo>
                <a:cubicBezTo>
                  <a:pt x="858" y="1207"/>
                  <a:pt x="901" y="1226"/>
                  <a:pt x="941" y="1237"/>
                </a:cubicBezTo>
                <a:cubicBezTo>
                  <a:pt x="1101" y="1208"/>
                  <a:pt x="947" y="1172"/>
                  <a:pt x="1026" y="1000"/>
                </a:cubicBezTo>
                <a:cubicBezTo>
                  <a:pt x="1038" y="974"/>
                  <a:pt x="1083" y="994"/>
                  <a:pt x="1111" y="991"/>
                </a:cubicBezTo>
                <a:cubicBezTo>
                  <a:pt x="1159" y="976"/>
                  <a:pt x="1187" y="914"/>
                  <a:pt x="1224" y="878"/>
                </a:cubicBezTo>
                <a:cubicBezTo>
                  <a:pt x="1253" y="821"/>
                  <a:pt x="1260" y="758"/>
                  <a:pt x="1281" y="698"/>
                </a:cubicBezTo>
                <a:cubicBezTo>
                  <a:pt x="1279" y="645"/>
                  <a:pt x="1305" y="379"/>
                  <a:pt x="1215" y="321"/>
                </a:cubicBezTo>
                <a:cubicBezTo>
                  <a:pt x="1185" y="275"/>
                  <a:pt x="1139" y="203"/>
                  <a:pt x="1092" y="179"/>
                </a:cubicBezTo>
                <a:cubicBezTo>
                  <a:pt x="958" y="112"/>
                  <a:pt x="855" y="37"/>
                  <a:pt x="705" y="0"/>
                </a:cubicBezTo>
                <a:cubicBezTo>
                  <a:pt x="601" y="5"/>
                  <a:pt x="503" y="1"/>
                  <a:pt x="403" y="28"/>
                </a:cubicBezTo>
                <a:cubicBezTo>
                  <a:pt x="374" y="47"/>
                  <a:pt x="346" y="56"/>
                  <a:pt x="318" y="75"/>
                </a:cubicBezTo>
                <a:cubicBezTo>
                  <a:pt x="299" y="113"/>
                  <a:pt x="279" y="147"/>
                  <a:pt x="251" y="179"/>
                </a:cubicBezTo>
                <a:cubicBezTo>
                  <a:pt x="235" y="198"/>
                  <a:pt x="217" y="214"/>
                  <a:pt x="195" y="226"/>
                </a:cubicBezTo>
                <a:cubicBezTo>
                  <a:pt x="191" y="228"/>
                  <a:pt x="201" y="220"/>
                  <a:pt x="204" y="217"/>
                </a:cubicBezTo>
                <a:close/>
              </a:path>
            </a:pathLst>
          </a:custGeom>
          <a:solidFill>
            <a:srgbClr val="108b0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73440" y="325296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339732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404496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29080" y="426096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426096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404496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81440" y="361332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8000" y="361332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29080" y="361332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5080" y="382896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2892600"/>
            <a:ext cx="43200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74920" y="254628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rrison bil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2316240"/>
            <a:ext cx="11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so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276360" y="2604960"/>
            <a:ext cx="43164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431120" y="2781360"/>
            <a:ext cx="117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08720" y="325296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72360" y="549360"/>
            <a:ext cx="11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rub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84720" y="653904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rub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14400" y="2976480"/>
            <a:ext cx="9099720" cy="820800"/>
          </a:xfrm>
          <a:custGeom>
            <a:avLst/>
            <a:gdLst/>
            <a:ahLst/>
            <a:rect l="l" t="t" r="r" b="b"/>
            <a:pathLst>
              <a:path w="5732" h="517">
                <a:moveTo>
                  <a:pt x="5732" y="517"/>
                </a:moveTo>
                <a:cubicBezTo>
                  <a:pt x="5673" y="497"/>
                  <a:pt x="5631" y="446"/>
                  <a:pt x="5577" y="416"/>
                </a:cubicBezTo>
                <a:cubicBezTo>
                  <a:pt x="5500" y="373"/>
                  <a:pt x="5426" y="345"/>
                  <a:pt x="5339" y="334"/>
                </a:cubicBezTo>
                <a:cubicBezTo>
                  <a:pt x="5312" y="325"/>
                  <a:pt x="5277" y="328"/>
                  <a:pt x="5257" y="307"/>
                </a:cubicBezTo>
                <a:cubicBezTo>
                  <a:pt x="5251" y="301"/>
                  <a:pt x="5247" y="292"/>
                  <a:pt x="5239" y="288"/>
                </a:cubicBezTo>
                <a:cubicBezTo>
                  <a:pt x="5184" y="260"/>
                  <a:pt x="5121" y="243"/>
                  <a:pt x="5065" y="215"/>
                </a:cubicBezTo>
                <a:cubicBezTo>
                  <a:pt x="5033" y="199"/>
                  <a:pt x="4998" y="172"/>
                  <a:pt x="4964" y="160"/>
                </a:cubicBezTo>
                <a:cubicBezTo>
                  <a:pt x="4900" y="138"/>
                  <a:pt x="4829" y="131"/>
                  <a:pt x="4763" y="115"/>
                </a:cubicBezTo>
                <a:cubicBezTo>
                  <a:pt x="4717" y="82"/>
                  <a:pt x="4662" y="87"/>
                  <a:pt x="4608" y="69"/>
                </a:cubicBezTo>
                <a:cubicBezTo>
                  <a:pt x="4513" y="38"/>
                  <a:pt x="4414" y="17"/>
                  <a:pt x="4315" y="5"/>
                </a:cubicBezTo>
                <a:cubicBezTo>
                  <a:pt x="4221" y="8"/>
                  <a:pt x="4126" y="9"/>
                  <a:pt x="4032" y="14"/>
                </a:cubicBezTo>
                <a:cubicBezTo>
                  <a:pt x="3994" y="16"/>
                  <a:pt x="3965" y="38"/>
                  <a:pt x="3931" y="51"/>
                </a:cubicBezTo>
                <a:cubicBezTo>
                  <a:pt x="3860" y="78"/>
                  <a:pt x="3795" y="115"/>
                  <a:pt x="3721" y="133"/>
                </a:cubicBezTo>
                <a:cubicBezTo>
                  <a:pt x="3661" y="193"/>
                  <a:pt x="3545" y="203"/>
                  <a:pt x="3465" y="215"/>
                </a:cubicBezTo>
                <a:cubicBezTo>
                  <a:pt x="3428" y="220"/>
                  <a:pt x="3355" y="233"/>
                  <a:pt x="3355" y="233"/>
                </a:cubicBezTo>
                <a:cubicBezTo>
                  <a:pt x="3265" y="266"/>
                  <a:pt x="3190" y="248"/>
                  <a:pt x="3090" y="243"/>
                </a:cubicBezTo>
                <a:cubicBezTo>
                  <a:pt x="3042" y="225"/>
                  <a:pt x="3003" y="207"/>
                  <a:pt x="2953" y="197"/>
                </a:cubicBezTo>
                <a:cubicBezTo>
                  <a:pt x="2910" y="168"/>
                  <a:pt x="2857" y="163"/>
                  <a:pt x="2807" y="151"/>
                </a:cubicBezTo>
                <a:cubicBezTo>
                  <a:pt x="2736" y="133"/>
                  <a:pt x="2830" y="153"/>
                  <a:pt x="2743" y="124"/>
                </a:cubicBezTo>
                <a:cubicBezTo>
                  <a:pt x="2697" y="109"/>
                  <a:pt x="2644" y="102"/>
                  <a:pt x="2596" y="96"/>
                </a:cubicBezTo>
                <a:cubicBezTo>
                  <a:pt x="2524" y="78"/>
                  <a:pt x="2459" y="52"/>
                  <a:pt x="2386" y="41"/>
                </a:cubicBezTo>
                <a:cubicBezTo>
                  <a:pt x="2264" y="0"/>
                  <a:pt x="2117" y="11"/>
                  <a:pt x="1993" y="5"/>
                </a:cubicBezTo>
                <a:cubicBezTo>
                  <a:pt x="1938" y="8"/>
                  <a:pt x="1883" y="8"/>
                  <a:pt x="1828" y="14"/>
                </a:cubicBezTo>
                <a:cubicBezTo>
                  <a:pt x="1756" y="22"/>
                  <a:pt x="1693" y="53"/>
                  <a:pt x="1627" y="78"/>
                </a:cubicBezTo>
                <a:cubicBezTo>
                  <a:pt x="1533" y="113"/>
                  <a:pt x="1431" y="136"/>
                  <a:pt x="1335" y="160"/>
                </a:cubicBezTo>
                <a:cubicBezTo>
                  <a:pt x="1275" y="190"/>
                  <a:pt x="1225" y="215"/>
                  <a:pt x="1170" y="252"/>
                </a:cubicBezTo>
                <a:cubicBezTo>
                  <a:pt x="1133" y="277"/>
                  <a:pt x="1100" y="322"/>
                  <a:pt x="1070" y="352"/>
                </a:cubicBezTo>
                <a:cubicBezTo>
                  <a:pt x="1043" y="379"/>
                  <a:pt x="1003" y="400"/>
                  <a:pt x="969" y="416"/>
                </a:cubicBezTo>
                <a:cubicBezTo>
                  <a:pt x="931" y="457"/>
                  <a:pt x="968" y="423"/>
                  <a:pt x="878" y="453"/>
                </a:cubicBezTo>
                <a:cubicBezTo>
                  <a:pt x="815" y="474"/>
                  <a:pt x="761" y="489"/>
                  <a:pt x="695" y="499"/>
                </a:cubicBezTo>
                <a:cubicBezTo>
                  <a:pt x="622" y="494"/>
                  <a:pt x="541" y="502"/>
                  <a:pt x="475" y="462"/>
                </a:cubicBezTo>
                <a:cubicBezTo>
                  <a:pt x="462" y="454"/>
                  <a:pt x="450" y="446"/>
                  <a:pt x="439" y="435"/>
                </a:cubicBezTo>
                <a:cubicBezTo>
                  <a:pt x="431" y="427"/>
                  <a:pt x="430" y="413"/>
                  <a:pt x="420" y="407"/>
                </a:cubicBezTo>
                <a:cubicBezTo>
                  <a:pt x="404" y="397"/>
                  <a:pt x="366" y="389"/>
                  <a:pt x="366" y="389"/>
                </a:cubicBezTo>
                <a:cubicBezTo>
                  <a:pt x="337" y="362"/>
                  <a:pt x="318" y="328"/>
                  <a:pt x="283" y="307"/>
                </a:cubicBezTo>
                <a:cubicBezTo>
                  <a:pt x="246" y="284"/>
                  <a:pt x="196" y="283"/>
                  <a:pt x="155" y="270"/>
                </a:cubicBezTo>
                <a:cubicBezTo>
                  <a:pt x="88" y="276"/>
                  <a:pt x="53" y="271"/>
                  <a:pt x="0" y="297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24000" y="386064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are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00360" y="155736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59280" y="5445000"/>
            <a:ext cx="11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84360" y="1699920"/>
            <a:ext cx="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8600" y="1289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81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57800" y="33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59560" y="3738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67480" y="41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" y="5635800"/>
            <a:ext cx="10386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 = s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17:21:38Z</dcterms:created>
  <dc:creator>general user</dc:creator>
  <dc:description/>
  <dc:language>en-US</dc:language>
  <cp:lastModifiedBy>general user</cp:lastModifiedBy>
  <dcterms:modified xsi:type="dcterms:W3CDTF">2003-04-15T18:36:37Z</dcterms:modified>
  <cp:revision>4</cp:revision>
  <dc:subject/>
  <dc:title>Slide 1</dc:title>
</cp:coreProperties>
</file>